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0.jpeg" ContentType="image/jpeg"/>
  <Override PartName="/ppt/media/image19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F212-F48D-41F1-9B51-7DC304EB35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EC1C-4F73-4B1C-A47F-C1745DAD74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651-0435-4272-BD3B-7E257301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534-0297-4352-9D86-B1BBF6D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BE1E7-6E74-45D5-9FD9-697D85D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878D-8800-4704-A30F-45F767C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F82DD-6558-42FF-BF7A-F241378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0458-5D01-4256-A123-663BBAD1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53FBC-888D-4F88-90BB-7F0495ED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E2A4D-AEAE-4892-B794-0E08E98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E44F-AC2F-4E73-B64E-2AF6A5BC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E7D5-6C84-41B4-98ED-88D8F7B8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E8599-C5C1-4FDB-83A4-FDAA8501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5E6C5-AD08-4734-A382-72A8228B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9AB-D5A0-4F94-B306-CC2CA26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5FEA6-953A-414D-8F4D-43059B10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13399-D652-4E42-9644-E0349D39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8437F-1A86-4770-BD92-6A5670EB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0CF15-4933-4C40-A129-E259C500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2842D-557D-4C50-95C2-4BC7AA5F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3FBBF-3AC7-4A51-8B1C-FF50955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64A8F-225B-4443-B0F5-C02F5BA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502FA-0C71-47E1-82F5-3FBAB25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DF6DF-26B4-4FA8-9FCE-8029879D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B6749-0A30-4545-B8E1-F0C7FF5A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5B9-B2D3-45F8-8602-5B47D782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D278E-C9B8-41DF-A99A-430BF73D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2982-963C-43CB-8024-96973C95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01BD-F91D-429A-8DC4-9A7E1232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2C23B-BC36-4D49-BCA4-4D220075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6E1FB-4AC4-4452-9D24-AABAE11C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79D89-BB7E-4494-AAD6-B05A180F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D76D5-932A-40DE-9FD6-8868264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99B0B-22DC-4B9E-82C6-FF69835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794C-1BDC-4C3C-AE9C-9D257014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00DA2-8216-477E-8002-E04DE36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B49-E58E-4350-AC16-BBEEABD3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7A51-9443-45A4-8600-BD74A837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A4D10-C832-4290-8D91-4F94B61F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24391-7B03-419C-8872-C4EEA7EA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D1EC7-082A-4F0D-BEA2-073699C0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3AE4-FFDE-4E15-978B-A7DB617C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DA555-2C5C-4703-BC98-6146EA81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4E243-026C-4776-9AB0-01847D2F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E83A8-BC2C-4D27-BC3D-EB8A2E2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1268C-506E-4B32-9C38-8300CE0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4E9FC-9B3D-4459-A0C5-2FF5C0DF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6B3-AAFA-4951-AB66-2783EE6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8332C-30BF-4E5C-9359-EBE2342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78694-58B6-476B-8F09-C9E806E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D96D3-0AD0-48AF-8C4F-E1C3233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C774-14C7-4C0E-90AD-7E173036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445B7-1337-4317-9E94-4A823C82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D31AF-C5A9-4F66-B7C9-FF790A22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19E33-2DAA-4C71-9A02-A1D2CF5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7870E-086E-4F91-AA97-3E81C10C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8951C-0B53-4BD4-91DC-83D5080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1D753-DF0A-4285-9D4B-A07E9AA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911E-1160-4E5B-8A10-CA7145A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B2D10-9E21-4B45-BD52-8B1B75E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BD9F0-18E0-4351-BCC3-78662A4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70D85-D42E-4EAD-A435-BF29B43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C6CC8-56A7-4DEA-88B8-C99B4D4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3EBE1-A3CD-40B6-8385-889AFEA1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399E0-97BE-4332-9662-82D912F4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F0703-F64C-431B-A180-31E13786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325A2-9F5B-4FC2-AC6C-D3422576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09D5A-F01F-411F-95A7-E049FAD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01DF6-0340-4A99-819F-86F1E95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4A3F-F6E9-44C0-819F-753EAA04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4F217-0701-4029-BE4D-8471CC1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BF8A8-61AC-4A99-A1FA-6F7B6575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05B4E-CA87-4E04-BA48-777AB6B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EC4CA-7E99-4D06-A250-2D5ACE4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B1524-8FE6-4982-9E10-591F1AB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AD63A-E43A-4AAC-8399-89F08A7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37318-2A40-4C06-A78B-6362C20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33163-F18D-4AFD-9D9F-FA3B3D3A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B7B61-ED27-42FA-9609-F0B1C9DE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E82-04CF-4318-BBAB-78B4C95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64E3-2B31-4AEF-8680-5AC1309B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16164-DD81-42E8-BA28-353114A4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2D1E0-D3AE-4E2A-B71F-224D594F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3AA97-D1E8-429C-BC17-57FF89A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06813-F9C2-4D44-98DE-DF72C768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91AC4-A452-44F0-AA55-3CFC3A02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95F54-7F20-4803-8D09-C48AE83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086CE-990B-4092-8191-4B36FEB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7A93C-3E0C-462E-8A05-8BB0A187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23A82-3D9A-40B8-9DEE-12CE95F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5468-7095-4180-B134-4435F36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2146C-805A-4FE0-9F8D-7650BB0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EE753-4D2A-4796-8D81-4A2F27C8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23FA4-9BC7-4B90-AE29-E37ABEBC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A25F5-A166-447C-B855-0EC19CC8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BB677-66F6-4813-8F41-2CAB098B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38796-B29E-4A4F-A15D-A44649A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7EE1B-149A-4297-B025-BD1FD16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05112-7B79-4257-97CD-B4B6885D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7A276-9FA4-44FF-B20A-DDEC829B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8AB4E-3448-4921-B0F7-EFD45EB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A68-A3BC-4017-9EA1-C29D1FBA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1405-EC31-4AE7-9054-090BEEC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0D780-B9C6-4508-BEE0-1F6E1BC5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8EDCC-4056-45EF-B173-CF4E92B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66CED-26FE-4FAB-8787-22B6445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5EC5C-D484-4120-8988-C47B415D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70FEB-ED17-494D-9E17-8B1B3A5F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11589-6625-4617-9E60-EA57DA04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B7F64-62FF-447F-82E2-6AC4869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CA1A7-3648-472D-A289-0A91BA03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A8C6E-DBA9-4DD8-B798-E36A331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2AFCE-3AB3-4455-89E3-C7F469F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878-74E0-4312-A4D5-A37515F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28127-60F6-45B8-8422-3D383E9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41E07-89E4-42FD-8F7C-1731C395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DACC9-0EC4-4D2C-A488-F60665B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0FA8C-186E-414F-990F-B021974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11113-0890-4E1E-98BF-51CA90F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A3F6C-E392-4622-B6A9-BDADDDF3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56921-EDCF-42D5-B6DB-A0780C75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42071-FC58-4435-91E6-D4096722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C5DFAD-083E-4A91-BEBA-697D0E5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F5EFB-6F6C-454B-90F9-3FD2C86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FE70-A54A-4686-BB04-2AEA2C3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E5442-2EA2-4560-9C82-128997D1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C6AC5-4D6C-4931-8C37-05DD64CF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6B1D5-36FD-4B00-91C5-4AC431F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09B99-B7A1-46C4-8F5A-990393E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6974B-071C-446C-8E5D-1BA61F29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572E2-4608-4271-B005-D294D46D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59163-890C-4102-A8C6-611666EB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9D4DE-396A-4410-B51D-CCFC1197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AAF56-AE98-4285-927A-BF72129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DCFD4-CFA6-49C9-A21D-98B6484F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C556-43D2-4817-A019-BF65E7B1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08AD2-AE4B-40D2-A83E-0F3F2267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D3F60-E10F-4C64-ACFF-B7F35D0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AA8E2-6CA1-4B5A-B7CE-71974FC6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E3529-9A88-44F9-9F31-704553C6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28387-C3B5-4420-86E8-FBDA8E5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62708-6A27-4427-8153-67C373B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389FB-41C9-4FC0-98A7-E6702A3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FB6ACF-0CEB-43FF-9C5F-0D22A69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65DEF-3925-4D0F-8AE5-4DDC6B3D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F98C7-0855-4DC0-8DC5-0D387DDC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4966-8011-4978-AF2E-9B737DB8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DF6AE-B7D7-41F1-BEB9-E206E192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E166C-019D-4CE6-95C6-5F63BFFE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F60CE-6EC9-44C9-8505-BC7D00BC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1D4FE-2807-4F7A-8CB3-B23C86A0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4B77F-F135-4934-8BF9-8ADD8C03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AA3C1-A4BF-4F78-B7DA-465938E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C3693-2753-4AEB-BB26-6FEC1AC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D3C48-1C33-492C-B06D-640CD9C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B8FC5-31A0-473D-8D1F-0F6E3F6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B9130-C015-4CC4-B92D-2963EB0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717E-7AA6-4185-B097-4D1221B2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A2B2F-D68C-4C26-B0C1-8358E564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BEC6A-E2F0-48F1-B9A8-D4EECB6B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49D5B-E115-4A77-AB9C-710DB9C0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8FCF2-2BAC-44BC-8040-E709716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48ED9-25E8-416A-A08E-2BC3A556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4C6C0-7EC9-44DE-850F-5A6FB72D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8E6FC-B8CE-4A4F-BAEC-CB1CCC2B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8E469-CD49-4DDD-80E5-5D672DD3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62434-41DB-4499-A554-881A188F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4CF5D-5BCE-4A3C-ACD9-C84A3FBA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C5EB-2F84-4C95-9030-0668F4A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901AA-9931-4B25-99BC-FC1E5DC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04EEB-2240-4E08-A6F3-F60DEB4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239CF-3582-4507-800A-5C3B922B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D22F7-2E74-4FDA-9115-6ED7240D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A05C4-0CC9-4A39-BC4C-671F669B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AA6DB-C9CE-49BC-B960-21AB2B40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FB929-AEBC-4EE4-B96A-7530EAEA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5812C9-C5DC-431B-B9E9-31345C51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F7ECA-A805-410F-B9F4-82A87E39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5DBD0-27CB-4A10-B653-4BBCCDDA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0061-0393-4527-B7DC-F847CA1D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C0155-D370-44BD-A1A2-76A7E8E5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C806D2-DD32-43F4-A810-E25AE457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B3403-8406-43E8-ACE7-3371A53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7C617B-0C66-42F1-A047-F2B3E64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E6D61A-B4ED-499D-B3C9-6CC32F6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DBC8D4-0F2E-4C46-9BAC-0C6F0A08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3840B-1D9C-436B-A0EF-B8A88FC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9FB06F-DDE8-4BDA-A075-C1D23C4A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0B459-98D5-4929-B478-674FC63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803FB-627E-412B-8851-C4A1DBF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31B5-E5FC-4BAC-BCAE-72B35D82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C0EC8F-6A63-4845-9699-2E6A889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DFDCAF-A5BF-446E-BAC7-A25AC4C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EF60E-7344-4356-945F-FDA5290A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AA470-562A-4848-AF74-2AEE5AD1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B0AC10-71F1-46C1-9A97-6FCD084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3B3447-79DA-47F1-AFC2-594C33F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3AB01D-2ACF-43C5-B81D-D5045245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D1CDF-ACB2-4688-B156-53542545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28D200-3E72-4B88-85D5-3C786A7B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B07A27-EFC1-40CE-B298-4584FEDA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5EAA-4410-4FCA-88C1-E13D3E27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0F510E-CE27-4E26-A80C-E064BDC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4764B0-FC95-4C3E-9886-08E8392B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E1408E-D586-4B0E-B726-B2095F75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E0819-EA98-4760-B2A0-2DA90516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82AC36-8C3D-45D7-807B-CF5C94F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997D8A-27EF-4867-A9D0-9853006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B9C8C-6368-44E1-84C7-B8DDA53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4DCC5E-9F4A-4894-AD11-3C985E07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9A81A9-F548-42E5-B276-67A2778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EE6E7-989C-4D57-B836-C6484971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B41-83E3-4D3D-95C1-868D2DD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67F7-89F5-48A8-9A36-58C0843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155C8C-2B42-4292-8344-3982F4A7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DE1F33-BA0B-4FFF-BB52-4C762CE6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FEF781-F4B6-46DA-9967-6414509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653442-3881-4DB6-B403-3398EEE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ACAB31-679D-4700-9E91-18B6EF7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DD2B2F-D50B-48E3-8769-1209D626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8A708-16C0-4473-BF08-DCB3FB9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06EA51-34F7-429A-994C-68D2D2AF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FBA5C8-D3E4-492F-B883-7646395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22FAF-4EB1-4E35-9D0C-9F1E13B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D842-5013-4F6F-965A-B63489F7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D2391B-B6EB-4156-8BD0-9DC68C72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D563F4-C47F-4868-A9C5-9CC1E809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55D667-1661-451F-AEA2-1DB672FF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4B38FF-92CB-4836-AE86-889F3A86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009BF0-B5B8-4691-AFC7-A264D593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FB5A87-2DA7-472B-B831-1B0A4CED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7C3DCF-AE75-42D8-AE8D-5E8EAF9F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F3FC25-FA46-4183-BAAC-FD06DE98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7215B-AE8F-4F40-9479-9C34639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0D7850-921D-444B-8239-B536E4DE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C7D2-C226-407A-8420-4A123CB8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833D03-43F0-418D-B3A1-07EEB03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634847-C697-46E9-9288-04CE0C33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5B979C-BE01-4E00-9D27-974313A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5B7946-2287-4856-A2AA-14AB8AE2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90AAD8-6779-467F-8C0F-404507B7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B613-5187-47EB-AF31-DC08F0A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F3A0-59DE-445B-BD8F-D383F13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91B9-09F0-4F10-98C3-553CD6FC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73D9-D18C-4001-9B18-3A4105F2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473E-EC8B-4F4E-941A-604AA07A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6EB1-838C-47A7-8C4A-C3EE2326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AA77-C6C4-4673-8A11-EB72B988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35F-F29B-4730-BEC7-552C86F4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3C03-BF71-4FE0-9DA1-068C698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3F777-F81C-4927-A178-D98E82D7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33F9B-0F0A-4C31-9689-EEE0B01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2F04-168E-4A7C-A02F-E1B355C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89B0-BBF3-4CF9-9A29-ADD0951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DF50-F81F-4CA1-8C51-CE83D87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CEEA-EF65-46EA-B256-8CD1C6C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CB5D-FE5C-408B-A08C-6DC53EA4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9CEC-47D5-446F-9581-52395286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0058-F9C6-44C8-9F6E-A26EECAC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62F-6DB1-4804-BFA9-0FE58336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BE98-CF13-4706-93C8-D66FD221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4167-4506-41A8-9D8D-6A2317A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1635E-7FD6-467D-921D-E5AF7759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8F8E6-90C1-4CEE-A780-52B4610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D17FC-4C1C-435B-9A37-2CD3E09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B3CAB-637F-42CB-8507-7B72FC6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1F973-432F-470F-A49E-7F63508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0E64-4F0A-4FD1-BA65-130B0D7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942F-84F0-4C41-81F6-F63208C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15FB3-083D-4465-85E2-DAE6CCCF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6DF-8D46-4429-B897-56F4042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89401-5C52-40B5-B30D-0A36611F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E99C0-F11C-4360-9D66-AB0CD94F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60C4-B979-44F1-852E-29209DF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424C-A360-410B-8536-6D02292F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69C6-AEEB-4F31-849C-A46BE1A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DF0E-2C7A-4723-9FAD-E2B8B796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9F6F-84FD-44E2-8407-B0EEEED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AD38-6B61-4E6B-87EF-7359828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E1A1-88C3-496A-AF2B-36B9F3D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DB1D4-EAE6-4182-BC69-E2BD8D0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38F-C401-4B7B-A5F7-93593936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7EC0-E772-4E0C-AB2B-59054D9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9198-6E85-4AE0-BD09-FC9DBC80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360F-9E88-440B-846E-21315D34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1523D-5E6A-42B2-8CA6-B8C29F35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268F-0315-481A-985D-4932E7E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FDD8-1C7A-4309-9A89-1BB1E50E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789A-E154-447F-9F97-8B85801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8E96-4272-4A28-AA53-04B2B97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05D78-7074-463C-B649-F4D91AB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C503D-863C-4CBA-B1A8-CF4B6C07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BA8-C2FC-4D0C-8C71-A0BA4DE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FC3A-617C-4A81-9969-1C29D0D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A9C8-5ED9-440E-9A14-3536D4D6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B55E-A58B-47D5-B515-A7B9331A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13B23-8DAE-4C76-B605-05F06574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FD054-D687-4BC3-8349-7656D9D2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6DF5E-46D2-4DF7-BABE-B99B575B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B118A-B4D9-4091-B868-914DF584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74A0-0173-44B7-A1DB-A421C30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E7F7A-A1F3-44D8-93DC-91AE6EE9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D130-03A8-4CFD-A37A-187CE09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D2D-A1CA-4241-B99D-8759111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1D2E-AE1F-494E-8A5B-6D200267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EB9E8-BEDC-463C-B2F1-5423D71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5672D-47BB-4E0D-8D3B-ADD9DF0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ABD57-10B1-4692-AF04-57F7087F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343D6-C305-4EC5-A87E-F79A17F8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6B7F-BECB-4577-9FD9-9467B73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1CAD8-E0DF-4784-A0CE-1B5E1C50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E512-85E5-49B0-91C3-E5D1F490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1A9F-F5F5-4822-83DD-FDEB169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98DF-266F-48F7-A3E8-D682160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5AA-AA45-4B87-A30C-C978D590D4E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2F8-6A5E-4460-B860-A2C584CD1E7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B8B-E578-41A3-97C0-8EC4865CBC7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8F1D-2415-42FB-82AF-C622716711A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A0EE-E8A0-45DF-B749-6F4FE1B10F3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A9F-2814-4675-B3EA-DFDE836ED25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3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1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C767-09BF-415F-8E93-2DAD44A3BC3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8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F7D-A4E4-42B5-9DF9-DD521F95898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5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9E1-52A8-45C4-AC45-70FEC2B0292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33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635-C59B-4C63-BA9B-93087D483F8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6DA8-35CD-4CEA-9082-7050F114EDB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0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FF8E-1EDE-487C-911C-D4E93A94F9C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1136-A42A-40D3-89AF-11E64EEF788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5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DC8-C352-4213-BD14-DF6FE82001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6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7F1-30EA-43CC-BD01-FB3189074F1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0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65F-6090-47E0-B60F-1B11A9D9462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7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DA74-0012-4DBB-820D-EF518CCCB3E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B6E7-4CC0-4DBB-A39A-7F34F38A64B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CBB-0B17-45BF-8C8F-9BA844CA739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6E4F-24BD-4A4C-8A6D-1C1BC09D9D9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E1B6-BEE6-419A-9088-B9A810E8DEB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87B7-0A42-4024-9E06-B693D262872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D13E-569E-4F21-8D3A-32BA25DBF9A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EDB8-DC0E-4F4B-9952-1DA8FC5AAC6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0188-3F6F-42A6-88DC-CF7873315A1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8C17-D9C7-4288-B5D3-11FB034EDE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TEMA 4: TRANSPORTE </a:t>
            </a:r>
            <a:br>
              <a:rPr sz="4800"/>
            </a:b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 Y ELIMINACIÓN DE DESECH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subTitle"/>
          </p:nvPr>
        </p:nvSpPr>
        <p:spPr>
          <a:xfrm>
            <a:off x="323640" y="3213000"/>
            <a:ext cx="727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RELACIONADAS CON 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VASOS SANGUI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CORRIDO DE 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CARDIOVA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URINARIO Y LA EXCRE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FUNCIONAN LOS RIÑO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URINARIO Y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TRO SISTEMAS PARA UNA FUNCIÓN: LA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5. EL RECORRIDO DE LA SANGR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4716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structura del co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oble bomba) hace que la circulación de la sangre sea do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ircuito pulmonar o men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ntre el corazón y los pulmones (intercambio de gases). La sangre sale del ventrículo derecho (cargada de C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or las arterias pulmonares y va a los pulmones, allí ocurre el intercambio gaseoso, sale cargada de 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vuelve al corazón a la aurícula izquierda a través de las venas pulmon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ircuito general o may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corazón al resto del organismo (distribuye oxígeno y nutrientes y recoge desechos). La sangre sale del ventrículo izquierdo a través de la arteria aorta a todo el organismo cargada de 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produce el intercambio gaseoso con las células del organismo, saliendo cargada de C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resando al corazón a la aurícula derecha a través de las venas c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5" name="Picture 6" descr="anato39"/>
          <p:cNvPicPr/>
          <p:nvPr/>
        </p:nvPicPr>
        <p:blipFill>
          <a:blip r:embed="rId1"/>
          <a:stretch/>
        </p:blipFill>
        <p:spPr>
          <a:xfrm>
            <a:off x="4716360" y="1484280"/>
            <a:ext cx="4427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3 Rectángulo"/>
          <p:cNvSpPr/>
          <p:nvPr/>
        </p:nvSpPr>
        <p:spPr>
          <a:xfrm>
            <a:off x="395280" y="836640"/>
            <a:ext cx="748980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ara qué un recorrido tan compli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asa por los pulmones la sang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a que se oxigene antes de pasar al resto del organ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odos los órganos de nuestro cuerpo reciban la sangre rica en oxíge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ando igual lo alejados que est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resumen, el recorrido de la sangre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sangre pas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 veces por el coraz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Una cuando recorre el circuito pulmonar y otra al atravesar el circuito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hay una completa separación entre la sangre rica y pobre en oxí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Cerr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sangre no sale de los vasos sanguí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6. ENFERMEDADES CARDIOVASCUL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06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fermedades cardiovascul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terioesclerosi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durecimiento de las arterias debido al depósit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asa y colest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sus paredes. Pueden taponar arte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farto de miocardi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uando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ág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apona alguna de las arterias coronarias que nutren al corazón. Mueren las células musculares y parte del corazón deja de fun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364000" y="1719000"/>
            <a:ext cx="37800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alud cardiovas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lo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ida salu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o fum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nicotina endurece las paredes de las ar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eta equilibr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vitar el exceso de grasas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lata los vasos y mejora el mantenimiento d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0" name="Picture 7" descr="2052917704_da0b2a699e"/>
          <p:cNvPicPr/>
          <p:nvPr/>
        </p:nvPicPr>
        <p:blipFill>
          <a:blip r:embed="rId1"/>
          <a:stretch/>
        </p:blipFill>
        <p:spPr>
          <a:xfrm>
            <a:off x="1835280" y="4797360"/>
            <a:ext cx="22320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 u="sng">
                <a:solidFill>
                  <a:srgbClr val="330066"/>
                </a:solidFill>
                <a:uFillTx/>
                <a:latin typeface="Arial"/>
              </a:rPr>
              <a:t>ESQUEM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2" name="Picture 5" descr="mapa"/>
          <p:cNvPicPr/>
          <p:nvPr/>
        </p:nvPicPr>
        <p:blipFill>
          <a:blip r:embed="rId1"/>
          <a:stretch/>
        </p:blipFill>
        <p:spPr>
          <a:xfrm>
            <a:off x="539640" y="1397160"/>
            <a:ext cx="7345440" cy="487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004d"/>
                </a:solidFill>
                <a:latin typeface="Arial"/>
                <a:ea typeface="Arial"/>
              </a:rPr>
              <a:t>7. EL SISTEMA URINARIO Y LA EXCRECIÓN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0" y="1413000"/>
            <a:ext cx="5292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cre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iminación de sustancias de desecho procedentes de la actividad de las células (CO2, orina, su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in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íquido de color amarillo transparente formada principalmente por agua y sustancias disueltas de desecho (ure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tes del sistema urin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iñ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an la orina, se distingu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rteza: en el exterior, de aspecto granu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édula: dividida en zonas con forma piramid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eria y vena re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éter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s tubos finos que llevan la orina desde los riñones hasta la vejiga de la o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jig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ugar donde se almacena la o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stá llena se contrae y se expu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et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ducto que une la vejiga al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5" name="Picture 5" descr="sistemaurinario1"/>
          <p:cNvPicPr/>
          <p:nvPr/>
        </p:nvPicPr>
        <p:blipFill>
          <a:blip r:embed="rId1"/>
          <a:stretch/>
        </p:blipFill>
        <p:spPr>
          <a:xfrm>
            <a:off x="5364000" y="836640"/>
            <a:ext cx="378000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6" name="Picture 104" descr="227ALMP07H02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1873440"/>
          </a:xfrm>
          <a:prstGeom prst="rect">
            <a:avLst/>
          </a:prstGeom>
          <a:ln w="0">
            <a:noFill/>
          </a:ln>
        </p:spPr>
      </p:pic>
      <p:sp>
        <p:nvSpPr>
          <p:cNvPr id="2157" name="5 CuadroTexto"/>
          <p:cNvSpPr/>
          <p:nvPr/>
        </p:nvSpPr>
        <p:spPr>
          <a:xfrm>
            <a:off x="6588000" y="4724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t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8" name="10 Conector recto de flecha"/>
          <p:cNvCxnSpPr/>
          <p:nvPr/>
        </p:nvCxnSpPr>
        <p:spPr>
          <a:xfrm>
            <a:off x="7380360" y="4869000"/>
            <a:ext cx="505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9" name="12 CuadroTexto"/>
          <p:cNvSpPr/>
          <p:nvPr/>
        </p:nvSpPr>
        <p:spPr>
          <a:xfrm>
            <a:off x="6372360" y="53006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éd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0" name="16 Conector recto de flecha"/>
          <p:cNvCxnSpPr/>
          <p:nvPr/>
        </p:nvCxnSpPr>
        <p:spPr>
          <a:xfrm flipV="1">
            <a:off x="7164360" y="5157000"/>
            <a:ext cx="93744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1" name="17 CuadroTexto"/>
          <p:cNvSpPr/>
          <p:nvPr/>
        </p:nvSpPr>
        <p:spPr>
          <a:xfrm>
            <a:off x="6516720" y="5661000"/>
            <a:ext cx="8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teria y vena re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2" name="21 Conector recto de flecha"/>
          <p:cNvCxnSpPr/>
          <p:nvPr/>
        </p:nvCxnSpPr>
        <p:spPr>
          <a:xfrm flipV="1">
            <a:off x="7451640" y="5516280"/>
            <a:ext cx="4341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3" name="22 CuadroTexto"/>
          <p:cNvSpPr/>
          <p:nvPr/>
        </p:nvSpPr>
        <p:spPr>
          <a:xfrm>
            <a:off x="6300720" y="645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r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4" name="24 Conector recto de flecha"/>
          <p:cNvCxnSpPr/>
          <p:nvPr/>
        </p:nvCxnSpPr>
        <p:spPr>
          <a:xfrm flipV="1">
            <a:off x="7093080" y="63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004d"/>
                </a:solidFill>
                <a:latin typeface="Arial"/>
                <a:ea typeface="Arial"/>
              </a:rPr>
              <a:t>8. ¿CÓMO FUNCIONAN LOS RIÑONES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457200" y="1413000"/>
            <a:ext cx="433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fro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uncionan como pequeñas fábricas de orina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unidad básica del riñón, form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áps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hueca rodeada de capilares sanguíne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úbul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ubo fino con forma de asa. Desembocan en un tubo más grueso que recoge la orina formada por varias nefr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5796000" y="1600200"/>
            <a:ext cx="316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ormación de orin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rina es un filtrado de la sangre, una disolución más concentrada de productos de desecho como la u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angre que va por los capilares llega a la cápsula. La delgada pared de la cápsula hace de filtro y deja pasar pequeñas moléculas como sales, glucosa, urea y 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filtrado pasa por el túbulo y parte es reabsorbido de nuevo a la sangre (glucosa y agua) el resto de urea y sales, forman la or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Picture 8" descr="form-orina"/>
          <p:cNvPicPr/>
          <p:nvPr/>
        </p:nvPicPr>
        <p:blipFill>
          <a:blip r:embed="rId1"/>
          <a:stretch/>
        </p:blipFill>
        <p:spPr>
          <a:xfrm>
            <a:off x="53964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9" name="Picture 84" descr="826630Atlas_Página_07_Imagen_0002"/>
          <p:cNvPicPr/>
          <p:nvPr/>
        </p:nvPicPr>
        <p:blipFill>
          <a:blip r:embed="rId1"/>
          <a:stretch/>
        </p:blipFill>
        <p:spPr>
          <a:xfrm>
            <a:off x="216000" y="1233360"/>
            <a:ext cx="2295360" cy="2880000"/>
          </a:xfrm>
          <a:prstGeom prst="rect">
            <a:avLst/>
          </a:prstGeom>
          <a:ln w="0">
            <a:noFill/>
          </a:ln>
        </p:spPr>
      </p:pic>
      <p:sp>
        <p:nvSpPr>
          <p:cNvPr id="2170" name="Text Box 25"/>
          <p:cNvSpPr/>
          <p:nvPr/>
        </p:nvSpPr>
        <p:spPr>
          <a:xfrm>
            <a:off x="792000" y="260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l funcionamiento de los ri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1" name="Picture 82" descr="826630Atlas_Página_07_Imagen_0004"/>
          <p:cNvPicPr/>
          <p:nvPr/>
        </p:nvPicPr>
        <p:blipFill>
          <a:blip r:embed="rId2"/>
          <a:stretch/>
        </p:blipFill>
        <p:spPr>
          <a:xfrm>
            <a:off x="3849840" y="946080"/>
            <a:ext cx="4430520" cy="5075280"/>
          </a:xfrm>
          <a:prstGeom prst="rect">
            <a:avLst/>
          </a:prstGeom>
          <a:ln w="0">
            <a:noFill/>
          </a:ln>
        </p:spPr>
      </p:pic>
      <p:sp>
        <p:nvSpPr>
          <p:cNvPr id="2172" name="Oval 85"/>
          <p:cNvSpPr/>
          <p:nvPr/>
        </p:nvSpPr>
        <p:spPr>
          <a:xfrm>
            <a:off x="1224000" y="3357720"/>
            <a:ext cx="503280" cy="50292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86"/>
          <p:cNvSpPr/>
          <p:nvPr/>
        </p:nvSpPr>
        <p:spPr>
          <a:xfrm>
            <a:off x="1727280" y="3645000"/>
            <a:ext cx="1836720" cy="179280"/>
          </a:xfrm>
          <a:prstGeom prst="line">
            <a:avLst/>
          </a:prstGeom>
          <a:ln w="190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87"/>
          <p:cNvSpPr/>
          <p:nvPr/>
        </p:nvSpPr>
        <p:spPr>
          <a:xfrm>
            <a:off x="539640" y="4076640"/>
            <a:ext cx="1871640" cy="1513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Nefro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stituyen el riñ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iltran y depuran la san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orman la o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Line 88"/>
          <p:cNvSpPr/>
          <p:nvPr/>
        </p:nvSpPr>
        <p:spPr>
          <a:xfrm flipH="1" flipV="1">
            <a:off x="4296960" y="324756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90"/>
          <p:cNvSpPr/>
          <p:nvPr/>
        </p:nvSpPr>
        <p:spPr>
          <a:xfrm flipH="1" flipV="1">
            <a:off x="4191120" y="1304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Text Box 91"/>
          <p:cNvSpPr/>
          <p:nvPr/>
        </p:nvSpPr>
        <p:spPr>
          <a:xfrm>
            <a:off x="2679840" y="1125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rteriola efe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Line 92"/>
          <p:cNvSpPr/>
          <p:nvPr/>
        </p:nvSpPr>
        <p:spPr>
          <a:xfrm flipH="1" flipV="1">
            <a:off x="4319640" y="1989000"/>
            <a:ext cx="12254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Text Box 93"/>
          <p:cNvSpPr/>
          <p:nvPr/>
        </p:nvSpPr>
        <p:spPr>
          <a:xfrm>
            <a:off x="2808360" y="1808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rteriola afe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94"/>
          <p:cNvSpPr/>
          <p:nvPr/>
        </p:nvSpPr>
        <p:spPr>
          <a:xfrm flipH="1">
            <a:off x="4247640" y="5121360"/>
            <a:ext cx="39708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95"/>
          <p:cNvSpPr/>
          <p:nvPr/>
        </p:nvSpPr>
        <p:spPr>
          <a:xfrm>
            <a:off x="3166920" y="569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Vénula re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96"/>
          <p:cNvSpPr/>
          <p:nvPr/>
        </p:nvSpPr>
        <p:spPr>
          <a:xfrm>
            <a:off x="6156360" y="5337000"/>
            <a:ext cx="46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97"/>
          <p:cNvSpPr/>
          <p:nvPr/>
        </p:nvSpPr>
        <p:spPr>
          <a:xfrm>
            <a:off x="6445080" y="5697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Rama descen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98"/>
          <p:cNvSpPr/>
          <p:nvPr/>
        </p:nvSpPr>
        <p:spPr>
          <a:xfrm flipH="1">
            <a:off x="5403960" y="5300640"/>
            <a:ext cx="39672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99"/>
          <p:cNvSpPr/>
          <p:nvPr/>
        </p:nvSpPr>
        <p:spPr>
          <a:xfrm>
            <a:off x="4716360" y="569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Rama ascen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AutoShape 100"/>
          <p:cNvSpPr/>
          <p:nvPr/>
        </p:nvSpPr>
        <p:spPr>
          <a:xfrm rot="16200000">
            <a:off x="6318000" y="4287600"/>
            <a:ext cx="287280" cy="34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936"/>
                </a:lnTo>
                <a:cubicBezTo>
                  <a:pt x="10800" y="10936"/>
                  <a:pt x="5400" y="10936"/>
                  <a:pt x="0" y="10936"/>
                </a:cubicBezTo>
                <a:cubicBezTo>
                  <a:pt x="5400" y="10936"/>
                  <a:pt x="10800" y="10936"/>
                  <a:pt x="10800" y="1093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 Box 101"/>
          <p:cNvSpPr/>
          <p:nvPr/>
        </p:nvSpPr>
        <p:spPr>
          <a:xfrm>
            <a:off x="5692680" y="608976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sa de Hen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102"/>
          <p:cNvSpPr/>
          <p:nvPr/>
        </p:nvSpPr>
        <p:spPr>
          <a:xfrm>
            <a:off x="5616720" y="103680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ápsula de Bow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103"/>
          <p:cNvSpPr/>
          <p:nvPr/>
        </p:nvSpPr>
        <p:spPr>
          <a:xfrm flipV="1">
            <a:off x="6084720" y="1305000"/>
            <a:ext cx="2160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Text Box 104"/>
          <p:cNvSpPr/>
          <p:nvPr/>
        </p:nvSpPr>
        <p:spPr>
          <a:xfrm>
            <a:off x="6423120" y="133992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lomér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105"/>
          <p:cNvSpPr/>
          <p:nvPr/>
        </p:nvSpPr>
        <p:spPr>
          <a:xfrm flipV="1">
            <a:off x="6119640" y="1591920"/>
            <a:ext cx="3970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106"/>
          <p:cNvSpPr/>
          <p:nvPr/>
        </p:nvSpPr>
        <p:spPr>
          <a:xfrm>
            <a:off x="8028000" y="438768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úbulo col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107"/>
          <p:cNvSpPr/>
          <p:nvPr/>
        </p:nvSpPr>
        <p:spPr>
          <a:xfrm>
            <a:off x="7632720" y="4400640"/>
            <a:ext cx="468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115"/>
          <p:cNvSpPr/>
          <p:nvPr/>
        </p:nvSpPr>
        <p:spPr>
          <a:xfrm>
            <a:off x="3348000" y="299736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rteriola re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Rectangle 75"/>
          <p:cNvSpPr/>
          <p:nvPr/>
        </p:nvSpPr>
        <p:spPr>
          <a:xfrm>
            <a:off x="71280" y="1700280"/>
            <a:ext cx="8677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6" name="Object 2"/>
          <p:cNvGraphicFramePr/>
          <p:nvPr/>
        </p:nvGraphicFramePr>
        <p:xfrm>
          <a:off x="179280" y="3451320"/>
          <a:ext cx="842508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451320"/>
                    <a:ext cx="84250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8" name="Line 63"/>
          <p:cNvSpPr/>
          <p:nvPr/>
        </p:nvSpPr>
        <p:spPr>
          <a:xfrm flipV="1">
            <a:off x="719280" y="3284280"/>
            <a:ext cx="323640" cy="7189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67"/>
          <p:cNvSpPr/>
          <p:nvPr/>
        </p:nvSpPr>
        <p:spPr>
          <a:xfrm>
            <a:off x="7380360" y="5732640"/>
            <a:ext cx="86364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O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AutoShape 68"/>
          <p:cNvSpPr/>
          <p:nvPr/>
        </p:nvSpPr>
        <p:spPr>
          <a:xfrm>
            <a:off x="7812000" y="5445000"/>
            <a:ext cx="108000" cy="25236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ffffff"/>
          </a:solidFill>
          <a:ln cap="rnd" w="9360">
            <a:solidFill>
              <a:srgbClr val="33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74"/>
          <p:cNvSpPr/>
          <p:nvPr/>
        </p:nvSpPr>
        <p:spPr>
          <a:xfrm>
            <a:off x="287280" y="177336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tapas de la formación de o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62"/>
          <p:cNvSpPr/>
          <p:nvPr/>
        </p:nvSpPr>
        <p:spPr>
          <a:xfrm>
            <a:off x="826920" y="2744640"/>
            <a:ext cx="2089440" cy="5400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Filtra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lomer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64"/>
          <p:cNvSpPr/>
          <p:nvPr/>
        </p:nvSpPr>
        <p:spPr>
          <a:xfrm>
            <a:off x="3851280" y="2744640"/>
            <a:ext cx="4321080" cy="5400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absor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ub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AutoShape 95"/>
          <p:cNvSpPr/>
          <p:nvPr/>
        </p:nvSpPr>
        <p:spPr>
          <a:xfrm rot="16200000">
            <a:off x="401760" y="5387760"/>
            <a:ext cx="71280" cy="144720"/>
          </a:xfrm>
          <a:prstGeom prst="downArrow">
            <a:avLst>
              <a:gd name="adj1" fmla="val 50000"/>
              <a:gd name="adj2" fmla="val 50758"/>
            </a:avLst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AutoShape 96"/>
          <p:cNvSpPr/>
          <p:nvPr/>
        </p:nvSpPr>
        <p:spPr>
          <a:xfrm rot="16200000">
            <a:off x="401400" y="5542920"/>
            <a:ext cx="71640" cy="144720"/>
          </a:xfrm>
          <a:prstGeom prst="downArrow">
            <a:avLst>
              <a:gd name="adj1" fmla="val 50000"/>
              <a:gd name="adj2" fmla="val 50503"/>
            </a:avLst>
          </a:prstGeom>
          <a:solidFill>
            <a:srgbClr val="ff33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AutoShape 97"/>
          <p:cNvSpPr/>
          <p:nvPr/>
        </p:nvSpPr>
        <p:spPr>
          <a:xfrm rot="16200000">
            <a:off x="401400" y="5698440"/>
            <a:ext cx="71640" cy="144720"/>
          </a:xfrm>
          <a:prstGeom prst="downArrow">
            <a:avLst>
              <a:gd name="adj1" fmla="val 50000"/>
              <a:gd name="adj2" fmla="val 50503"/>
            </a:avLst>
          </a:prstGeom>
          <a:solidFill>
            <a:srgbClr val="ff993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AutoShape 98"/>
          <p:cNvSpPr/>
          <p:nvPr/>
        </p:nvSpPr>
        <p:spPr>
          <a:xfrm rot="16200000">
            <a:off x="401400" y="5853960"/>
            <a:ext cx="71640" cy="144720"/>
          </a:xfrm>
          <a:prstGeom prst="downArrow">
            <a:avLst>
              <a:gd name="adj1" fmla="val 50000"/>
              <a:gd name="adj2" fmla="val 5050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99"/>
          <p:cNvSpPr/>
          <p:nvPr/>
        </p:nvSpPr>
        <p:spPr>
          <a:xfrm>
            <a:off x="502200" y="533700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cc33"/>
                </a:solidFill>
                <a:latin typeface="Calibri"/>
              </a:rPr>
              <a:t>Dese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 Box 100"/>
          <p:cNvSpPr/>
          <p:nvPr/>
        </p:nvSpPr>
        <p:spPr>
          <a:xfrm>
            <a:off x="492480" y="54928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3300"/>
                </a:solidFill>
                <a:latin typeface="Calibri"/>
              </a:rPr>
              <a:t>Sang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Text Box 101"/>
          <p:cNvSpPr/>
          <p:nvPr/>
        </p:nvSpPr>
        <p:spPr>
          <a:xfrm>
            <a:off x="479160" y="564840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9900"/>
                </a:solidFill>
                <a:latin typeface="Calibri"/>
              </a:rPr>
              <a:t>Nutr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102"/>
          <p:cNvSpPr/>
          <p:nvPr/>
        </p:nvSpPr>
        <p:spPr>
          <a:xfrm>
            <a:off x="481680" y="58039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66ff"/>
                </a:solidFill>
                <a:latin typeface="Calibri"/>
              </a:rPr>
              <a:t>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 txBox="1"/>
          <p:nvPr/>
        </p:nvSpPr>
        <p:spPr>
          <a:xfrm>
            <a:off x="456840" y="475920"/>
            <a:ext cx="71391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doble función del riñ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rbono, el oxígeno y el hidrógeno de las moléculas orgánicas que se degrada en la respiración celular pasan a formar CO</a:t>
            </a:r>
            <a:r>
              <a:rPr b="0" lang="es-E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agua.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tróg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arece en la sangre formand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ur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 baseline="-2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ure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óx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on eliminados al exterior a través de los riñones, pulmones y piel (órganos excretor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riñ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lizan un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oble fun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yudan a limpiar la sangre de desechos (excre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an la cantidad de agua y sales que esta conti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ecanismos que hacen que los seres vivos alcancen una estabilidad en las propiedades de su medio interno. Ayudan a esta estabil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iñ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ulmones: expulsan el CO</a:t>
            </a:r>
            <a:r>
              <a:rPr b="0" lang="es-ES" sz="16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hígado: elimina y expulsa sustancias tóxicas y de desec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iel: elimina agua y sustancias de desec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erebro: controlador de los procesos homeost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25"/>
          <p:cNvSpPr/>
          <p:nvPr/>
        </p:nvSpPr>
        <p:spPr>
          <a:xfrm>
            <a:off x="792000" y="40464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Órganos con función excre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4" name="Picture 100" descr="826630Unidad03_Página_16_Imagen_0004"/>
          <p:cNvPicPr/>
          <p:nvPr/>
        </p:nvPicPr>
        <p:blipFill>
          <a:blip r:embed="rId1"/>
          <a:srcRect l="27816" t="38730" r="29362" b="0"/>
          <a:stretch/>
        </p:blipFill>
        <p:spPr>
          <a:xfrm>
            <a:off x="1150920" y="1447920"/>
            <a:ext cx="3816360" cy="28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5" name="Object 2"/>
          <p:cNvGraphicFramePr/>
          <p:nvPr/>
        </p:nvGraphicFramePr>
        <p:xfrm>
          <a:off x="647640" y="4149720"/>
          <a:ext cx="2737080" cy="20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4149720"/>
                    <a:ext cx="27370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7" name="Picture 105" descr="826630Atlas_Página_11_Imagen_0002"/>
          <p:cNvPicPr/>
          <p:nvPr/>
        </p:nvPicPr>
        <p:blipFill>
          <a:blip r:embed="rId4"/>
          <a:stretch/>
        </p:blipFill>
        <p:spPr>
          <a:xfrm>
            <a:off x="5740560" y="2708280"/>
            <a:ext cx="3344760" cy="3457440"/>
          </a:xfrm>
          <a:prstGeom prst="rect">
            <a:avLst/>
          </a:prstGeom>
          <a:ln w="0">
            <a:noFill/>
          </a:ln>
        </p:spPr>
      </p:pic>
      <p:sp>
        <p:nvSpPr>
          <p:cNvPr id="2218" name="Rectangle 106"/>
          <p:cNvSpPr/>
          <p:nvPr/>
        </p:nvSpPr>
        <p:spPr>
          <a:xfrm>
            <a:off x="1170000" y="1557360"/>
            <a:ext cx="122400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ulm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107"/>
          <p:cNvSpPr/>
          <p:nvPr/>
        </p:nvSpPr>
        <p:spPr>
          <a:xfrm flipH="1">
            <a:off x="180036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Text Box 108"/>
          <p:cNvSpPr/>
          <p:nvPr/>
        </p:nvSpPr>
        <p:spPr>
          <a:xfrm>
            <a:off x="358920" y="22766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iminan 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Rectangle 109"/>
          <p:cNvSpPr/>
          <p:nvPr/>
        </p:nvSpPr>
        <p:spPr>
          <a:xfrm>
            <a:off x="358920" y="3816360"/>
            <a:ext cx="1258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110"/>
          <p:cNvSpPr/>
          <p:nvPr/>
        </p:nvSpPr>
        <p:spPr>
          <a:xfrm>
            <a:off x="2160720" y="4941720"/>
            <a:ext cx="82692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111"/>
          <p:cNvSpPr/>
          <p:nvPr/>
        </p:nvSpPr>
        <p:spPr>
          <a:xfrm>
            <a:off x="2954160" y="504972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pulsa residuos procedent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e la diges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112"/>
          <p:cNvSpPr/>
          <p:nvPr/>
        </p:nvSpPr>
        <p:spPr>
          <a:xfrm>
            <a:off x="1405080" y="5913360"/>
            <a:ext cx="64908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113"/>
          <p:cNvSpPr/>
          <p:nvPr/>
        </p:nvSpPr>
        <p:spPr>
          <a:xfrm>
            <a:off x="1981080" y="593244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pulsa algunos fárma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114"/>
          <p:cNvSpPr/>
          <p:nvPr/>
        </p:nvSpPr>
        <p:spPr>
          <a:xfrm>
            <a:off x="4714920" y="3359160"/>
            <a:ext cx="1369800" cy="6462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lándula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udorípa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Oval 115"/>
          <p:cNvSpPr/>
          <p:nvPr/>
        </p:nvSpPr>
        <p:spPr>
          <a:xfrm>
            <a:off x="5892840" y="4197240"/>
            <a:ext cx="792000" cy="828720"/>
          </a:xfrm>
          <a:prstGeom prst="ellipse">
            <a:avLst/>
          </a:prstGeom>
          <a:noFill/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8" name="AutoShape 116"/>
          <p:cNvCxnSpPr>
            <a:stCxn id="2227" idx="2"/>
            <a:endCxn id="2226" idx="2"/>
          </p:cNvCxnSpPr>
          <p:nvPr/>
        </p:nvCxnSpPr>
        <p:spPr>
          <a:xfrm rot="10800000">
            <a:off x="5400000" y="4004640"/>
            <a:ext cx="480240" cy="606960"/>
          </a:xfrm>
          <a:prstGeom prst="bentConnector2">
            <a:avLst/>
          </a:prstGeom>
          <a:ln w="19080">
            <a:solidFill>
              <a:srgbClr val="339933"/>
            </a:solidFill>
            <a:miter/>
          </a:ln>
        </p:spPr>
      </p:cxnSp>
      <p:sp>
        <p:nvSpPr>
          <p:cNvPr id="2229" name="Line 117"/>
          <p:cNvSpPr/>
          <p:nvPr/>
        </p:nvSpPr>
        <p:spPr>
          <a:xfrm flipH="1">
            <a:off x="5688000" y="4941720"/>
            <a:ext cx="3412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118"/>
          <p:cNvSpPr/>
          <p:nvPr/>
        </p:nvSpPr>
        <p:spPr>
          <a:xfrm>
            <a:off x="4808520" y="552780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cretan sudor (agua y sustancias de desech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. LA SANG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42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l sistema circulatorio: Corazón, vasos sanguíneos y sang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ang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Compuesta por dos par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parte líquida (55%). Aspecto amarillento formado por agua (99%) y sustancias disuel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élulas sanguíne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(45%). Se forman en la médula ósea roja. Son de 3 tip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34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Glóbulos roj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eritrocitos o hematí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s más abundantes. No tienen núcleo. Compuestos por hemoglobina (da color roj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34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Glóbulos blancos o leucocit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los menos abundantes. Tienen núcleo. Hay varios tip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34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Plaquetas o trombocit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on fragmentos de células. Se agrupan en pequeños grup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Función de la sangr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orte de sustancias sólidas como nutrientes o desechos y transporte de gases respiratorios. El CO2 es transportado por el 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e disuelve bien en agua) y el O2 por la hemoglob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l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glóbulos roj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tribuye el calor corpo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fensa: l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glóbulos blanc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fienden al org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rol de las hemorragias: l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laquet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agula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gre y detienen hemorrag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9" name="Picture 4" descr="Circul5-1-1"/>
          <p:cNvPicPr/>
          <p:nvPr/>
        </p:nvPicPr>
        <p:blipFill>
          <a:blip r:embed="rId1"/>
          <a:stretch/>
        </p:blipFill>
        <p:spPr>
          <a:xfrm>
            <a:off x="5975280" y="4765680"/>
            <a:ext cx="3168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0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0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0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0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20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0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004d"/>
                </a:solidFill>
                <a:latin typeface="Arial"/>
                <a:ea typeface="Arial"/>
              </a:rPr>
              <a:t>9. EL SISTEMA URINARIO Y LA SALUD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0" y="1599840"/>
            <a:ext cx="529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tornos más frecu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feccion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istitis es la inflamación de la vejiga por una inf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rmación de cálculos (piedras)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ecipitado de las sustancias transportadas por la orina formando arena o piedras, pueden bloquear conductos y si se expulsan es muy doloroso (cólico nefrític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enfermedad renal es grave y de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cumplirse la función depuradora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cesario realizar 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modi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riñón artificial, aparato con una membrana que deja pasar la urea y sustancias de desecho y retiene las proteínas y sustancias grandes para devolverlas al paciente). Esta medida es temporal, hasta que se recupera el riñón o se hace un trasp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en est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los riñ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nsumir con moderación alimentos ricos en proteí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rnes de caza y maris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Beber agua en abundanci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2 litros /día) disuelve desechos y los elimina fá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3" name="Picture 5" descr="20090730094535-salud"/>
          <p:cNvPicPr/>
          <p:nvPr/>
        </p:nvPicPr>
        <p:blipFill>
          <a:blip r:embed="rId1"/>
          <a:stretch/>
        </p:blipFill>
        <p:spPr>
          <a:xfrm>
            <a:off x="5292720" y="2133720"/>
            <a:ext cx="38512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10. CUATRO SISTEMAS PARA UNA FUNCIÓN: LA NUTRI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842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la nutrición cada una de nuestras células recibe los nutrientes que precisa y los utiliza. Para ello es necesario 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ncionamiento coordinado de cuatro sistem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irculatori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todas las células del organismo emplean los nutrientes aportados por la sangre para obtener energía y fabricar materia. Los residuos resultantes del metabolismo son vertidos a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igestiv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ransforma los alimentos en nutrientes solubles que las células necesitan para su funcion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spiratori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hace circular el aire entre el organismo y el medio externo, captando oxígeno necesario para la respiración celular y eliminando CO</a:t>
            </a:r>
            <a:r>
              <a:rPr b="0" lang="es-ES" sz="16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Urinari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os riñones limpian la sangre de u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6" name="Picture 5" descr="Unidad5pres"/>
          <p:cNvPicPr/>
          <p:nvPr/>
        </p:nvPicPr>
        <p:blipFill>
          <a:blip r:embed="rId1"/>
          <a:stretch/>
        </p:blipFill>
        <p:spPr>
          <a:xfrm>
            <a:off x="1979640" y="1052640"/>
            <a:ext cx="4968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7" name="Organization Chart 2"/>
          <p:cNvGrpSpPr/>
          <p:nvPr/>
        </p:nvGrpSpPr>
        <p:grpSpPr>
          <a:xfrm>
            <a:off x="468360" y="2006640"/>
            <a:ext cx="8208720" cy="3763800"/>
            <a:chOff x="468360" y="2006640"/>
            <a:chExt cx="8208720" cy="3763800"/>
          </a:xfrm>
        </p:grpSpPr>
        <p:cxnSp>
          <p:nvCxnSpPr>
            <p:cNvPr id="2238" name="_s3076"/>
            <p:cNvCxnSpPr>
              <a:stCxn id="2239" idx="1"/>
              <a:endCxn id="2240" idx="2"/>
            </p:cNvCxnSpPr>
            <p:nvPr/>
          </p:nvCxnSpPr>
          <p:spPr>
            <a:xfrm rot="10800000">
              <a:off x="2762280" y="5061960"/>
              <a:ext cx="201240" cy="46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1" name="_s3077"/>
            <p:cNvCxnSpPr>
              <a:stCxn id="2240" idx="1"/>
              <a:endCxn id="2242" idx="2"/>
            </p:cNvCxnSpPr>
            <p:nvPr/>
          </p:nvCxnSpPr>
          <p:spPr>
            <a:xfrm rot="10800000">
              <a:off x="1346040" y="4158000"/>
              <a:ext cx="20124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3" name="_s3078"/>
            <p:cNvCxnSpPr>
              <a:stCxn id="2242" idx="0"/>
              <a:endCxn id="2244" idx="2"/>
            </p:cNvCxnSpPr>
            <p:nvPr/>
          </p:nvCxnSpPr>
          <p:spPr>
            <a:xfrm flipH="1" flipV="1" rot="5400000">
              <a:off x="1838520" y="2773080"/>
              <a:ext cx="219240" cy="1203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5" name="_s3079"/>
            <p:cNvCxnSpPr>
              <a:stCxn id="2246" idx="0"/>
              <a:endCxn id="2247" idx="2"/>
            </p:cNvCxnSpPr>
            <p:nvPr/>
          </p:nvCxnSpPr>
          <p:spPr>
            <a:xfrm flipV="1">
              <a:off x="4087800" y="3264840"/>
              <a:ext cx="2160" cy="21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8" name="_s3080"/>
            <p:cNvCxnSpPr>
              <a:stCxn id="2249" idx="1"/>
              <a:endCxn id="2250" idx="2"/>
            </p:cNvCxnSpPr>
            <p:nvPr/>
          </p:nvCxnSpPr>
          <p:spPr>
            <a:xfrm rot="10800000">
              <a:off x="6046560" y="4158000"/>
              <a:ext cx="20124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1" name="_s3081"/>
            <p:cNvCxnSpPr>
              <a:stCxn id="2250" idx="0"/>
              <a:endCxn id="2252" idx="2"/>
            </p:cNvCxnSpPr>
            <p:nvPr/>
          </p:nvCxnSpPr>
          <p:spPr>
            <a:xfrm flipH="1" flipV="1" rot="5400000">
              <a:off x="6375600" y="2936520"/>
              <a:ext cx="219240" cy="876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3" name="_s3082"/>
            <p:cNvCxnSpPr>
              <a:stCxn id="2252" idx="0"/>
              <a:endCxn id="2254" idx="2"/>
            </p:cNvCxnSpPr>
            <p:nvPr/>
          </p:nvCxnSpPr>
          <p:spPr>
            <a:xfrm flipV="1" rot="16200000">
              <a:off x="5638680" y="1376280"/>
              <a:ext cx="219240" cy="23497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5" name="_s3083"/>
            <p:cNvCxnSpPr>
              <a:stCxn id="2247" idx="0"/>
              <a:endCxn id="2254" idx="2"/>
            </p:cNvCxnSpPr>
            <p:nvPr/>
          </p:nvCxnSpPr>
          <p:spPr>
            <a:xfrm flipH="1" flipV="1" rot="5400000">
              <a:off x="4221000" y="2307960"/>
              <a:ext cx="219240" cy="48636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6" name="_s3084"/>
            <p:cNvCxnSpPr>
              <a:stCxn id="2244" idx="0"/>
              <a:endCxn id="2254" idx="2"/>
            </p:cNvCxnSpPr>
            <p:nvPr/>
          </p:nvCxnSpPr>
          <p:spPr>
            <a:xfrm flipH="1" flipV="1" rot="5400000">
              <a:off x="3451680" y="1539000"/>
              <a:ext cx="219240" cy="202428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4" name="_s3085"/>
            <p:cNvSpPr/>
            <p:nvPr/>
          </p:nvSpPr>
          <p:spPr>
            <a:xfrm>
              <a:off x="3530520" y="2006640"/>
              <a:ext cx="2084040" cy="43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A NUTR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_s3086"/>
            <p:cNvSpPr/>
            <p:nvPr/>
          </p:nvSpPr>
          <p:spPr>
            <a:xfrm>
              <a:off x="1881720" y="2661120"/>
              <a:ext cx="1335960" cy="604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eces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_s3087"/>
            <p:cNvSpPr/>
            <p:nvPr/>
          </p:nvSpPr>
          <p:spPr>
            <a:xfrm>
              <a:off x="3419640" y="2661120"/>
              <a:ext cx="1335960" cy="604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porc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 célu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_s3088"/>
            <p:cNvSpPr/>
            <p:nvPr/>
          </p:nvSpPr>
          <p:spPr>
            <a:xfrm>
              <a:off x="6255000" y="2661120"/>
              <a:ext cx="1335960" cy="604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du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_s3089"/>
            <p:cNvSpPr/>
            <p:nvPr/>
          </p:nvSpPr>
          <p:spPr>
            <a:xfrm>
              <a:off x="5168880" y="3484440"/>
              <a:ext cx="1755360" cy="674280"/>
            </a:xfrm>
            <a:prstGeom prst="roundRect">
              <a:avLst>
                <a:gd name="adj" fmla="val 16667"/>
              </a:avLst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esec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2,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_s3090"/>
            <p:cNvSpPr/>
            <p:nvPr/>
          </p:nvSpPr>
          <p:spPr>
            <a:xfrm>
              <a:off x="6247800" y="4377600"/>
              <a:ext cx="2429280" cy="6850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CRE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 través 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istema Urin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_s3091"/>
            <p:cNvSpPr/>
            <p:nvPr/>
          </p:nvSpPr>
          <p:spPr>
            <a:xfrm>
              <a:off x="3210840" y="3484440"/>
              <a:ext cx="1755720" cy="674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ateria prop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ergía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p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alizar fu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_s3092"/>
            <p:cNvSpPr/>
            <p:nvPr/>
          </p:nvSpPr>
          <p:spPr>
            <a:xfrm>
              <a:off x="468360" y="3484440"/>
              <a:ext cx="1755720" cy="674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XÍ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_s3093"/>
            <p:cNvSpPr/>
            <p:nvPr/>
          </p:nvSpPr>
          <p:spPr>
            <a:xfrm>
              <a:off x="1547640" y="4377600"/>
              <a:ext cx="2429280" cy="685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netra a travé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ENTILACIÓN PULMO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istema respira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_s3094"/>
            <p:cNvSpPr/>
            <p:nvPr/>
          </p:nvSpPr>
          <p:spPr>
            <a:xfrm>
              <a:off x="2963880" y="5281560"/>
              <a:ext cx="1667160" cy="4888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ABORAN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HOMEOST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7" name="AutoShape 23"/>
            <p:cNvCxnSpPr/>
            <p:nvPr/>
          </p:nvCxnSpPr>
          <p:spPr>
            <a:xfrm rot="5400000">
              <a:off x="5780880" y="3946320"/>
              <a:ext cx="494280" cy="276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7618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SUM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QUEM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1" name="Picture 5" descr="esq-nutric"/>
          <p:cNvPicPr/>
          <p:nvPr/>
        </p:nvPicPr>
        <p:blipFill>
          <a:blip r:embed="rId1"/>
          <a:stretch/>
        </p:blipFill>
        <p:spPr>
          <a:xfrm>
            <a:off x="266760" y="1557360"/>
            <a:ext cx="8877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330066"/>
                </a:solidFill>
                <a:latin typeface="Arial"/>
              </a:rPr>
              <a:t>2. ENFERMEDADES RELACIONADAS CON LA SANGRE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NEM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u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sangre tiene poca hemoglobina o poca concentración de glóbulos ro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nemia más común se produce por 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falta de hier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sencial en la hemoglobi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omas: fatiga, perdida de vitalidad por falta de oxígeno en l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EUCEM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cánc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afecta a las células de la médula ósea (órgano encargado de fabricar la sang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ifiesta un aumento de glóbulos blancos que no luchan contra las infecciones y una disminución de glóbulos rojos y plaqu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EMOFIL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 hereditaria que se manifiesta por la aparición de hemorragias debidas a problemas en la coagulación de la san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us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alta de algún factor de coagulación por lo que la coagulación es más l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0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3. LOS VASOS SANGUINE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os tubos que conducen la sangre se llaman </a:t>
            </a:r>
            <a:r>
              <a:rPr b="0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vasos sanguíne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bomba encargada de impulsar la sangre por ellos es el </a:t>
            </a:r>
            <a:r>
              <a:rPr b="0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coraz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uestro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istema circulatorio es cerrad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ya que la sangre siempre circula por el interior de los vasos sanguíneos. </a:t>
            </a:r>
            <a:r>
              <a:rPr b="0" lang="es-ES" sz="1900" spc="-1" strike="noStrike">
                <a:solidFill>
                  <a:srgbClr val="ff3300"/>
                </a:solidFill>
                <a:latin typeface="Arial"/>
              </a:rPr>
              <a:t>Sólo los capilares permiten el intercambio con las célul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Hay tres tipos de vas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Arteri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llevan la sangre desde el corazón hacia los órgan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de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er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otente musculatura, pero a la vez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lást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ducen sangre 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levada pr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cen má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i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forme se alejan del coraz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Ven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conducen la sangre desde los órganos al coraz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de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ás fi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las arte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ducen sangre 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baja pr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válvul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impiden el retroceso de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cen má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rues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forme se acercan al coraz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pilare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vasos de pequeñísimo diámetro. Forman redes en el interior de los órganos que conectan arterias y ven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4" name="Picture 135" descr="229ALMP09H03"/>
          <p:cNvPicPr/>
          <p:nvPr/>
        </p:nvPicPr>
        <p:blipFill>
          <a:blip r:embed="rId1"/>
          <a:stretch/>
        </p:blipFill>
        <p:spPr>
          <a:xfrm>
            <a:off x="196920" y="1371600"/>
            <a:ext cx="4680000" cy="4467240"/>
          </a:xfrm>
          <a:prstGeom prst="rect">
            <a:avLst/>
          </a:prstGeom>
          <a:ln w="0">
            <a:noFill/>
          </a:ln>
        </p:spPr>
      </p:pic>
      <p:sp>
        <p:nvSpPr>
          <p:cNvPr id="2085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vasos sanguí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93"/>
          <p:cNvSpPr/>
          <p:nvPr/>
        </p:nvSpPr>
        <p:spPr>
          <a:xfrm>
            <a:off x="1479600" y="5300640"/>
            <a:ext cx="73080" cy="5047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92"/>
          <p:cNvSpPr/>
          <p:nvPr/>
        </p:nvSpPr>
        <p:spPr>
          <a:xfrm>
            <a:off x="1012680" y="5769000"/>
            <a:ext cx="1116000" cy="289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r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94"/>
          <p:cNvSpPr/>
          <p:nvPr/>
        </p:nvSpPr>
        <p:spPr>
          <a:xfrm>
            <a:off x="2703600" y="4689360"/>
            <a:ext cx="252360" cy="4683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95"/>
          <p:cNvSpPr/>
          <p:nvPr/>
        </p:nvSpPr>
        <p:spPr>
          <a:xfrm>
            <a:off x="2487600" y="5084640"/>
            <a:ext cx="90180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V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96"/>
          <p:cNvSpPr/>
          <p:nvPr/>
        </p:nvSpPr>
        <p:spPr>
          <a:xfrm>
            <a:off x="4896000" y="4365720"/>
            <a:ext cx="4068720" cy="16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Órgano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Órgano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AutoShape 97"/>
          <p:cNvSpPr/>
          <p:nvPr/>
        </p:nvSpPr>
        <p:spPr>
          <a:xfrm>
            <a:off x="6118200" y="4545000"/>
            <a:ext cx="1692360" cy="503280"/>
          </a:xfrm>
          <a:prstGeom prst="rightArrow">
            <a:avLst>
              <a:gd name="adj1" fmla="val 50000"/>
              <a:gd name="adj2" fmla="val 84067"/>
            </a:avLst>
          </a:prstGeom>
          <a:solidFill>
            <a:srgbClr val="bbe0e3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98"/>
          <p:cNvSpPr/>
          <p:nvPr/>
        </p:nvSpPr>
        <p:spPr>
          <a:xfrm>
            <a:off x="6496200" y="440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alibri"/>
              </a:rPr>
              <a:t>VE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AutoShape 99"/>
          <p:cNvSpPr/>
          <p:nvPr/>
        </p:nvSpPr>
        <p:spPr>
          <a:xfrm rot="10800000">
            <a:off x="6119280" y="5373720"/>
            <a:ext cx="1692360" cy="503280"/>
          </a:xfrm>
          <a:prstGeom prst="rightArrow">
            <a:avLst>
              <a:gd name="adj1" fmla="val 50000"/>
              <a:gd name="adj2" fmla="val 84067"/>
            </a:avLst>
          </a:prstGeom>
          <a:solidFill>
            <a:srgbClr val="f8715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100"/>
          <p:cNvSpPr/>
          <p:nvPr/>
        </p:nvSpPr>
        <p:spPr>
          <a:xfrm>
            <a:off x="6497640" y="522936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alibri"/>
              </a:rPr>
              <a:t>ARTE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101"/>
          <p:cNvSpPr/>
          <p:nvPr/>
        </p:nvSpPr>
        <p:spPr>
          <a:xfrm>
            <a:off x="6551640" y="54608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alibri"/>
              </a:rPr>
              <a:t>san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10"/>
          <p:cNvSpPr/>
          <p:nvPr/>
        </p:nvSpPr>
        <p:spPr>
          <a:xfrm flipV="1">
            <a:off x="2627280" y="1521000"/>
            <a:ext cx="612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111"/>
          <p:cNvSpPr/>
          <p:nvPr/>
        </p:nvSpPr>
        <p:spPr>
          <a:xfrm>
            <a:off x="3168720" y="126828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Válvula ven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12"/>
          <p:cNvSpPr/>
          <p:nvPr/>
        </p:nvSpPr>
        <p:spPr>
          <a:xfrm flipV="1">
            <a:off x="2916360" y="2060280"/>
            <a:ext cx="395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113"/>
          <p:cNvSpPr/>
          <p:nvPr/>
        </p:nvSpPr>
        <p:spPr>
          <a:xfrm>
            <a:off x="3276720" y="18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ndote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14"/>
          <p:cNvSpPr/>
          <p:nvPr/>
        </p:nvSpPr>
        <p:spPr>
          <a:xfrm flipV="1">
            <a:off x="2843280" y="2421000"/>
            <a:ext cx="684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115"/>
          <p:cNvSpPr/>
          <p:nvPr/>
        </p:nvSpPr>
        <p:spPr>
          <a:xfrm>
            <a:off x="3492360" y="227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úsculo l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16"/>
          <p:cNvSpPr/>
          <p:nvPr/>
        </p:nvSpPr>
        <p:spPr>
          <a:xfrm flipH="1" flipV="1">
            <a:off x="1187280" y="2097000"/>
            <a:ext cx="14472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17"/>
          <p:cNvSpPr/>
          <p:nvPr/>
        </p:nvSpPr>
        <p:spPr>
          <a:xfrm>
            <a:off x="2951280" y="2816280"/>
            <a:ext cx="64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118"/>
          <p:cNvSpPr/>
          <p:nvPr/>
        </p:nvSpPr>
        <p:spPr>
          <a:xfrm>
            <a:off x="3529080" y="26733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ejido cone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119"/>
          <p:cNvSpPr/>
          <p:nvPr/>
        </p:nvSpPr>
        <p:spPr>
          <a:xfrm>
            <a:off x="1044720" y="184464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ndote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20"/>
          <p:cNvSpPr/>
          <p:nvPr/>
        </p:nvSpPr>
        <p:spPr>
          <a:xfrm flipH="1" flipV="1">
            <a:off x="1007640" y="2565360"/>
            <a:ext cx="14292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121"/>
          <p:cNvSpPr/>
          <p:nvPr/>
        </p:nvSpPr>
        <p:spPr>
          <a:xfrm>
            <a:off x="108000" y="20970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úsculo l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22"/>
          <p:cNvSpPr/>
          <p:nvPr/>
        </p:nvSpPr>
        <p:spPr>
          <a:xfrm flipH="1" flipV="1">
            <a:off x="610920" y="3068280"/>
            <a:ext cx="43164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123"/>
          <p:cNvSpPr/>
          <p:nvPr/>
        </p:nvSpPr>
        <p:spPr>
          <a:xfrm>
            <a:off x="34920" y="25653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ejido cone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26"/>
          <p:cNvSpPr/>
          <p:nvPr/>
        </p:nvSpPr>
        <p:spPr>
          <a:xfrm>
            <a:off x="3816360" y="429264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27"/>
          <p:cNvSpPr/>
          <p:nvPr/>
        </p:nvSpPr>
        <p:spPr>
          <a:xfrm>
            <a:off x="3600360" y="490536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api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136"/>
          <p:cNvSpPr/>
          <p:nvPr/>
        </p:nvSpPr>
        <p:spPr>
          <a:xfrm>
            <a:off x="6443640" y="46274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9999"/>
                </a:solidFill>
                <a:latin typeface="Calibri"/>
              </a:rPr>
              <a:t>san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4. EL CORAZ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3995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s paredes son de tejido muscular (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ocard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) su interior está hueco y dividido en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uatro cavidad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 aurícul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vidades superiores donde llega la sangre conducida por las venas. Paredes finas y exten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 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vidades inferiores por donde la sangre sale del corazón a través de las arterias. Paredes más gruesas y potentes (ventrículo izquier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5" name="Picture 7" descr="si_0329"/>
          <p:cNvPicPr/>
          <p:nvPr/>
        </p:nvPicPr>
        <p:blipFill>
          <a:blip r:embed="rId1"/>
          <a:stretch/>
        </p:blipFill>
        <p:spPr>
          <a:xfrm>
            <a:off x="4140360" y="1125360"/>
            <a:ext cx="5003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6" name="Group 182"/>
          <p:cNvGrpSpPr/>
          <p:nvPr/>
        </p:nvGrpSpPr>
        <p:grpSpPr>
          <a:xfrm>
            <a:off x="250920" y="692280"/>
            <a:ext cx="8496720" cy="5760360"/>
            <a:chOff x="250920" y="692280"/>
            <a:chExt cx="8496720" cy="5760360"/>
          </a:xfrm>
        </p:grpSpPr>
        <p:sp>
          <p:nvSpPr>
            <p:cNvPr id="2117" name="Rectangle 93"/>
            <p:cNvSpPr/>
            <p:nvPr/>
          </p:nvSpPr>
          <p:spPr>
            <a:xfrm>
              <a:off x="408960" y="692280"/>
              <a:ext cx="7994520" cy="57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94"/>
            <p:cNvSpPr/>
            <p:nvPr/>
          </p:nvSpPr>
          <p:spPr>
            <a:xfrm>
              <a:off x="408960" y="692280"/>
              <a:ext cx="7994520" cy="78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alibri"/>
                </a:rPr>
                <a:t>Vías de entrada y sal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AutoShape 138"/>
            <p:cNvSpPr/>
            <p:nvPr/>
          </p:nvSpPr>
          <p:spPr>
            <a:xfrm>
              <a:off x="2005560" y="2269080"/>
              <a:ext cx="4705200" cy="3710520"/>
            </a:xfrm>
            <a:custGeom>
              <a:avLst/>
              <a:gdLst>
                <a:gd name="textAreaLeft" fmla="*/ 979200 w 4705200"/>
                <a:gd name="textAreaRight" fmla="*/ 3726000 w 4705200"/>
                <a:gd name="textAreaTop" fmla="*/ 772560 h 3710520"/>
                <a:gd name="textAreaBottom" fmla="*/ 2937960 h 37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cc99">
                <a:alpha val="60000"/>
              </a:srgbClr>
            </a:solidFill>
            <a:ln w="9360">
              <a:solidFill>
                <a:srgbClr val="f871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39"/>
            <p:cNvSpPr/>
            <p:nvPr/>
          </p:nvSpPr>
          <p:spPr>
            <a:xfrm>
              <a:off x="4358520" y="1872000"/>
              <a:ext cx="0" cy="43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40"/>
            <p:cNvSpPr/>
            <p:nvPr/>
          </p:nvSpPr>
          <p:spPr>
            <a:xfrm>
              <a:off x="1910520" y="4005720"/>
              <a:ext cx="451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Text Box 141"/>
            <p:cNvSpPr/>
            <p:nvPr/>
          </p:nvSpPr>
          <p:spPr>
            <a:xfrm>
              <a:off x="2508120" y="413856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Ventrículo dere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Text Box 142"/>
            <p:cNvSpPr/>
            <p:nvPr/>
          </p:nvSpPr>
          <p:spPr>
            <a:xfrm>
              <a:off x="4205160" y="413532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Ventrículo izquier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Text Box 144"/>
            <p:cNvSpPr/>
            <p:nvPr/>
          </p:nvSpPr>
          <p:spPr>
            <a:xfrm>
              <a:off x="2287800" y="266220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Aurícula derec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Text Box 145"/>
            <p:cNvSpPr/>
            <p:nvPr/>
          </p:nvSpPr>
          <p:spPr>
            <a:xfrm>
              <a:off x="4358520" y="285408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Aurícula izquier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AutoShape 146"/>
            <p:cNvSpPr/>
            <p:nvPr/>
          </p:nvSpPr>
          <p:spPr>
            <a:xfrm flipH="1" rot="14227800">
              <a:off x="1561680" y="1704240"/>
              <a:ext cx="1102680" cy="1411560"/>
            </a:xfrm>
            <a:custGeom>
              <a:avLst/>
              <a:gdLst>
                <a:gd name="textAreaLeft" fmla="*/ 159840 w 1102680"/>
                <a:gd name="textAreaRight" fmla="*/ 942840 w 1102680"/>
                <a:gd name="textAreaTop" fmla="*/ 207360 h 1411560"/>
                <a:gd name="textAreaBottom" fmla="*/ 120420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cc00cc">
                <a:alpha val="90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AutoShape 147"/>
            <p:cNvSpPr/>
            <p:nvPr/>
          </p:nvSpPr>
          <p:spPr>
            <a:xfrm>
              <a:off x="1441800" y="1872000"/>
              <a:ext cx="1505160" cy="1183680"/>
            </a:xfrm>
            <a:custGeom>
              <a:avLst/>
              <a:gdLst>
                <a:gd name="textAreaLeft" fmla="*/ 219600 w 1505160"/>
                <a:gd name="textAreaRight" fmla="*/ 1285560 w 1505160"/>
                <a:gd name="textAreaTop" fmla="*/ 173880 h 1183680"/>
                <a:gd name="textAreaBottom" fmla="*/ 1009800 h 11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cc00cc">
                <a:alpha val="90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Text Box 148"/>
            <p:cNvSpPr/>
            <p:nvPr/>
          </p:nvSpPr>
          <p:spPr>
            <a:xfrm>
              <a:off x="500040" y="1635480"/>
              <a:ext cx="16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Venas ca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AutoShape 149"/>
            <p:cNvSpPr/>
            <p:nvPr/>
          </p:nvSpPr>
          <p:spPr>
            <a:xfrm flipH="1" rot="20547600">
              <a:off x="4996800" y="2025360"/>
              <a:ext cx="1397520" cy="954000"/>
            </a:xfrm>
            <a:custGeom>
              <a:avLst/>
              <a:gdLst>
                <a:gd name="textAreaLeft" fmla="*/ 203040 w 1397520"/>
                <a:gd name="textAreaRight" fmla="*/ 1194480 w 1397520"/>
                <a:gd name="textAreaTop" fmla="*/ 138960 h 954000"/>
                <a:gd name="textAreaBottom" fmla="*/ 81504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AutoShape 150"/>
            <p:cNvSpPr/>
            <p:nvPr/>
          </p:nvSpPr>
          <p:spPr>
            <a:xfrm flipH="1" rot="21189000">
              <a:off x="5784840" y="2108880"/>
              <a:ext cx="1410120" cy="1026720"/>
            </a:xfrm>
            <a:custGeom>
              <a:avLst/>
              <a:gdLst>
                <a:gd name="textAreaLeft" fmla="*/ 207360 w 1410120"/>
                <a:gd name="textAreaRight" fmla="*/ 1202760 w 1410120"/>
                <a:gd name="textAreaTop" fmla="*/ 149400 h 1026720"/>
                <a:gd name="textAreaBottom" fmla="*/ 877320 h 102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AutoShape 152"/>
            <p:cNvSpPr/>
            <p:nvPr/>
          </p:nvSpPr>
          <p:spPr>
            <a:xfrm rot="6667200">
              <a:off x="5916240" y="1675800"/>
              <a:ext cx="1343160" cy="1373400"/>
            </a:xfrm>
            <a:custGeom>
              <a:avLst/>
              <a:gdLst>
                <a:gd name="textAreaLeft" fmla="*/ 198360 w 1343160"/>
                <a:gd name="textAreaRight" fmla="*/ 1144800 w 1343160"/>
                <a:gd name="textAreaTop" fmla="*/ 199080 h 1373400"/>
                <a:gd name="textAreaBottom" fmla="*/ 117432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AutoShape 153"/>
            <p:cNvSpPr/>
            <p:nvPr/>
          </p:nvSpPr>
          <p:spPr>
            <a:xfrm rot="6667200">
              <a:off x="5774400" y="2390400"/>
              <a:ext cx="1186920" cy="1256760"/>
            </a:xfrm>
            <a:custGeom>
              <a:avLst/>
              <a:gdLst>
                <a:gd name="textAreaLeft" fmla="*/ 173880 w 1186920"/>
                <a:gd name="textAreaRight" fmla="*/ 1013040 w 1186920"/>
                <a:gd name="textAreaTop" fmla="*/ 182520 h 1256760"/>
                <a:gd name="textAreaBottom" fmla="*/ 1074240 h 12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Text Box 154"/>
            <p:cNvSpPr/>
            <p:nvPr/>
          </p:nvSpPr>
          <p:spPr>
            <a:xfrm>
              <a:off x="4603320" y="1482120"/>
              <a:ext cx="414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Venas pulmon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AutoShape 156"/>
            <p:cNvSpPr/>
            <p:nvPr/>
          </p:nvSpPr>
          <p:spPr>
            <a:xfrm flipH="1" rot="16261200">
              <a:off x="5283720" y="3975840"/>
              <a:ext cx="1674000" cy="2207160"/>
            </a:xfrm>
            <a:custGeom>
              <a:avLst/>
              <a:gdLst>
                <a:gd name="textAreaLeft" fmla="*/ 243360 w 1674000"/>
                <a:gd name="textAreaRight" fmla="*/ 1430640 w 1674000"/>
                <a:gd name="textAreaTop" fmla="*/ 323640 h 2207160"/>
                <a:gd name="textAreaBottom" fmla="*/ 1883520 h 220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474" y="3440"/>
                    <a:pt x="10150" y="3462"/>
                    <a:pt x="9828" y="3505"/>
                  </a:cubicBezTo>
                  <a:lnTo>
                    <a:pt x="9373" y="94"/>
                  </a:lnTo>
                  <a:cubicBezTo>
                    <a:pt x="9846" y="31"/>
                    <a:pt x="10322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AutoShape 157"/>
            <p:cNvSpPr/>
            <p:nvPr/>
          </p:nvSpPr>
          <p:spPr>
            <a:xfrm rot="5400000">
              <a:off x="1759680" y="4019760"/>
              <a:ext cx="1674000" cy="2119680"/>
            </a:xfrm>
            <a:custGeom>
              <a:avLst/>
              <a:gdLst>
                <a:gd name="textAreaLeft" fmla="*/ 243360 w 1674000"/>
                <a:gd name="textAreaRight" fmla="*/ 1430640 w 1674000"/>
                <a:gd name="textAreaTop" fmla="*/ 311040 h 2119680"/>
                <a:gd name="textAreaBottom" fmla="*/ 1808640 h 211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474" y="3440"/>
                    <a:pt x="10150" y="3462"/>
                    <a:pt x="9828" y="3505"/>
                  </a:cubicBezTo>
                  <a:lnTo>
                    <a:pt x="9373" y="94"/>
                  </a:lnTo>
                  <a:cubicBezTo>
                    <a:pt x="9846" y="31"/>
                    <a:pt x="10322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cc00cc">
                <a:alpha val="90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Text Box 158"/>
            <p:cNvSpPr/>
            <p:nvPr/>
          </p:nvSpPr>
          <p:spPr>
            <a:xfrm>
              <a:off x="250920" y="5370480"/>
              <a:ext cx="221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Arteria pulmo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Text Box 159"/>
            <p:cNvSpPr/>
            <p:nvPr/>
          </p:nvSpPr>
          <p:spPr>
            <a:xfrm>
              <a:off x="6279120" y="5349960"/>
              <a:ext cx="22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Arteria aor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8" name="23 CuadroTexto"/>
          <p:cNvSpPr/>
          <p:nvPr/>
        </p:nvSpPr>
        <p:spPr>
          <a:xfrm>
            <a:off x="154764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QUEMA D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36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rrido de la sangre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 rica en CO</a:t>
            </a:r>
            <a:r>
              <a:rPr b="0" lang="es-E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tra al corazón a través de las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nas ca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sembocan en 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rícula derech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quí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s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 la válvula auriculoventricular (tricúspide) a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ntrículo derech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alen del corazón po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eria pulm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leva sangre a los pulmones para oxigenar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 rica en oxígen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uelve al corazón, a la aurícula izquier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r 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as pulmon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sa al ventrículo izquier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 la válvula auriculoventricular (mitral) y de aquí sale po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eria aor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ramificarse y distribuir sangre al resto d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0" name="Picture 9" descr="000560824"/>
          <p:cNvPicPr/>
          <p:nvPr/>
        </p:nvPicPr>
        <p:blipFill>
          <a:blip r:embed="rId1"/>
          <a:stretch/>
        </p:blipFill>
        <p:spPr>
          <a:xfrm>
            <a:off x="5359320" y="1125360"/>
            <a:ext cx="3784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2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Latido del corazón, ciclo cardíaco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ístole au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s aurículas se contraen e impulsan la sangre hacia los ventr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ístole vent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os ventrículos se contraen y la sangre sale por las arterias aórtica y pulmonar. La sangre no retrocede ya que las válvulas auriculoventriculares  se cierran (primer ruido cardía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ástol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músculos de la pared del corazón se relajan, pero la sangre no retrocede por el cierre de la válvula pulmonar y aórtica (segundo ruido cardiaco).  Las aurículas se llenan de sangre procedente de las ve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recuencia con que late el corazón varía según las necesidades d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oplos cardía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onidos especiales producidos  por válvulas cardíacas defectuosas que no cierran bien y permiten un pequeño retorno de sangre que produce un “soplid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2" name="Picture 7" descr="cond_sp"/>
          <p:cNvPicPr/>
          <p:nvPr/>
        </p:nvPicPr>
        <p:blipFill>
          <a:blip r:embed="rId1"/>
          <a:stretch/>
        </p:blipFill>
        <p:spPr>
          <a:xfrm>
            <a:off x="5219640" y="1773360"/>
            <a:ext cx="3924360" cy="49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3:00:17Z</dcterms:created>
  <dc:creator>Centor</dc:creator>
  <dc:description/>
  <dc:language>en-US</dc:language>
  <cp:lastModifiedBy>Centor</cp:lastModifiedBy>
  <dcterms:modified xsi:type="dcterms:W3CDTF">2015-12-31T10:35:33Z</dcterms:modified>
  <cp:revision>22</cp:revision>
  <dc:subject/>
  <dc:title>Diapositiva 1</dc:title>
</cp:coreProperties>
</file>